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0.png" ContentType="image/png"/>
  <Override PartName="/ppt/media/image6.jpeg" ContentType="image/jpeg"/>
  <Override PartName="/ppt/media/image5.wmf" ContentType="image/x-wmf"/>
  <Override PartName="/ppt/media/image9.jpeg" ContentType="image/jpeg"/>
  <Override PartName="/ppt/media/image23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4.png" ContentType="image/png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8.jpeg" ContentType="image/jpeg"/>
  <Override PartName="/ppt/media/image14.wmf" ContentType="image/x-wmf"/>
  <Override PartName="/ppt/media/image27.wmf" ContentType="image/x-wmf"/>
  <Override PartName="/ppt/media/image15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9080" y="4586040"/>
            <a:ext cx="5050080" cy="43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201680" y="841320"/>
            <a:ext cx="4484880" cy="336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01680" y="84132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9080" y="4586040"/>
            <a:ext cx="5050080" cy="43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metodologia didattica che verrà adottata nel seminario è altrettanto importante per realizzare gli obiettivi di apprendimento prop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81103-3325-40BD-A0EB-6964DFE44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48679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FAE80-E6BE-4411-B272-5C7490D44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788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1444-3D64-4A3B-B6D6-4712776DC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1880" y="41911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76200" y="41911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486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1880" y="486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76200" y="486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E623D-C000-475B-A989-B44FE422D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075C4-5D28-4290-A11A-6A874F9B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E4E92-1B8B-4DF4-B9ED-42B52D96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52D0C-4B77-4880-894C-B7F59095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8F3A3-D37C-4AE8-920A-B393FB9E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D7D52-18BD-46CA-95D1-9C7648CF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31105-3A0F-40FC-83CE-F669A0E8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92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A39DA-BABF-43A7-BF23-87DEE348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8E8A2-4230-460D-8E06-CF748D40B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788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0ABD8-A6FF-4885-8D2F-3F452E16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48679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D0EF4-4439-4B0A-8E8B-FC6EBF3D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920" y="48679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5A3B6-6DDC-424B-A7DE-45231053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788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045A1-B2EE-4B3F-970F-2365CC92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1880" y="41911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76200" y="41911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920" y="486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1880" y="486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76200" y="486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34B6E-F9F9-411C-86E0-F92CA248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EC62-FA0E-4FB4-9AC1-71DB3719E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CC04-53DE-41CB-9694-40E6EAA94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9350A-B325-4BFD-B5A0-577E3501B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7697-B4B0-400D-92E8-FA4A87CE7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6651-55FC-44B3-8BEC-59C54A13C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788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3F265-4B00-44E3-9AA1-487EEDE9C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48679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4876-758C-412F-9C79-746EFD5CF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F430-D6B3-41CC-947E-0F764889EF41}" type="slidenum">
              <a:rPr b="1" lang="en-US" sz="1200" spc="-1" strike="noStrike">
                <a:solidFill>
                  <a:srgbClr val="0000c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66680"/>
            <a:ext cx="3343320" cy="12240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B9D7-189E-426C-BC34-4100685B3558}" type="slidenum">
              <a:rPr b="1" lang="en-US" sz="1400" spc="-1" strike="noStrike">
                <a:solidFill>
                  <a:srgbClr val="0000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7204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cc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74747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747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74747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747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74747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747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74747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475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cc"/>
                </a:solidFill>
                <a:latin typeface="Tahoma"/>
              </a:rPr>
              <a:t>LA RIUNIONE COME LUOGO </a:t>
            </a:r>
            <a:br>
              <a:rPr sz="3000"/>
            </a:br>
            <a:r>
              <a:rPr b="0" lang="it-IT" sz="3000" spc="-1" strike="noStrike">
                <a:solidFill>
                  <a:srgbClr val="0000cc"/>
                </a:solidFill>
                <a:latin typeface="Tahoma"/>
              </a:rPr>
              <a:t>DI MEDIAZIONE E NEGOZIAZIONE</a:t>
            </a:r>
            <a:br>
              <a:rPr sz="3000"/>
            </a:b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Dott. Enrico Flavio Giangreco</a:t>
            </a:r>
            <a:br>
              <a:rPr sz="2800"/>
            </a:br>
            <a:r>
              <a:rPr b="0" lang="it-IT" sz="2600" spc="-1" strike="noStrike">
                <a:solidFill>
                  <a:srgbClr val="0000cc"/>
                </a:solidFill>
                <a:latin typeface="Tahoma"/>
              </a:rPr>
              <a:t>Docente di Formazione</a:t>
            </a:r>
            <a:br>
              <a:rPr sz="2600"/>
            </a:br>
            <a:r>
              <a:rPr b="0" lang="it-IT" sz="2600" spc="-1" strike="noStrike">
                <a:solidFill>
                  <a:srgbClr val="0000cc"/>
                </a:solidFill>
                <a:latin typeface="Tahoma"/>
              </a:rPr>
              <a:t>Giornalista Professionista</a:t>
            </a:r>
            <a:endParaRPr b="0" lang="en-US" sz="26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4021200"/>
            <a:ext cx="3429000" cy="230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5CE4F-686F-4E2A-9F0D-0E9E419A0A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I requisiti di un grupp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lmeno tre person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Obiettivo comune interrelato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Contiguità fisica periodica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85800" y="2517840"/>
            <a:ext cx="3814920" cy="27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EA5DC-B758-4916-A377-262A4998B9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Team building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66"/>
                </a:solidFill>
                <a:uFillTx/>
                <a:latin typeface="Tahoma"/>
              </a:rPr>
              <a:t>Gruppo di lavor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Committenza organizzativa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Obiettivo chiaro e condivis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Analisi delle risorse e dei vincoli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(R.U./Tecnologia/Tempo/Budget)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1554F-9731-4242-9908-79BBAC1D15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dinamiche di gruppo: le regol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ll'interno di un gruppo è necessario concordare una serie di regole </a:t>
            </a: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FONDAMENTAL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Gli scopi di tali regole son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stabilire un codice di comportamento comune durante le riunioni e le altre interazioni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offrire ai membri del team un quadro di riferimento per affrontare il comportamento reciproco, senza che l'interazione rischi continuamente di diventare una questione personale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31101-25F2-4621-BB88-B72B6DB94B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dinamiche di gruppo: le regol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Perché funzionino, le regole devon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essere prese di comune accordo da tutti i componenti del Team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essere sufficientemente specifiche da essere pratiche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crescere insieme al Team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Non devono, al contrari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essere d'ostacolo alla creatività del Team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essere usate come un'arma contro i singoli di fronte ai colleghi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D1128-B4B2-47A0-AB2A-5C6D36D032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ahoma"/>
              </a:rPr>
              <a:t>Le dinamiche di gruppo che influenzano le decis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lcune dinamiche portano i membri di un gruppo a prendere sovente delle decisioni che individualmente non prenderebbero (la logica del gregge)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035000" y="2552760"/>
            <a:ext cx="2855880" cy="24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39F48-B269-42EF-B9FC-2E786CB138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ahoma"/>
              </a:rPr>
              <a:t>Le dinamiche di gruppo che influenzano le decis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ltre dinamiche spingono alcuni individui a esprimere opinioni estreme che non prenderebbero se non fossero sfidati o sollecitati da interlocutori in disaccordo (la logica del campanile)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2368440"/>
            <a:ext cx="3814920" cy="303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4BA82-41B2-4B41-8461-F64B213CD2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ahoma"/>
              </a:rPr>
              <a:t>Le dinamiche di gruppo che influenzano le decis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2920" y="141300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ltre dinamiche nei gruppi riguardano i gruppi eccessivamente coesi, i quali spesso sono più interessati a mantenere un livello di coesione e consenso interno alto, piuttosto che individuare la migliore delle soluzioni. (la logica della banda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85960" y="2982960"/>
            <a:ext cx="1612800" cy="18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47B0-568E-4E94-82CB-6123318696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Un approccio adeguato alle decis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</a:rPr>
              <a:t>Favorire il dissenso nel gruppo, quindi, può, in qualche modo, stimolare lo spirito critic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04840" y="2666880"/>
            <a:ext cx="2990880" cy="23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84520-8295-4161-BDFB-6E173AA0E6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a struttura del grupp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a dimensione psicologica della struttura d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ruppo è costituita d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Rapporti di amicizi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impatia / Antipati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ggressività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petizione / Collaborazio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000066"/>
                </a:solidFill>
                <a:latin typeface="Wingdings"/>
                <a:ea typeface="Wingdings"/>
              </a:rPr>
              <a:t></a:t>
            </a:r>
            <a:endParaRPr b="0" lang="en-US" sz="41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referenz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Rifiut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ssociazione di perso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Frequenz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Qualità delle relazion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67175-C140-4EAF-9EF3-3FA0254742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forze in un grupp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’attrazione interpersonal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’influenza social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e regol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Il conformism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714680" y="3008160"/>
            <a:ext cx="1755720" cy="175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86D0-710F-4C53-864F-973B0DC9D5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Obiettivi di apprendiment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846920" cy="49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Identificare la comunicazione come leva di superamento dei conflitti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La comunicazione come strumento di mediazione per lavorare in tea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Comunicare in una riunione per negoziare: un approccio assertivo per essere persuasivi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Utilizzare in modo appropriato le strategie negoziali nel governo di una riunion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05616-D71F-4169-A815-E76A132D7F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Ruolo 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1640" y="1125000"/>
            <a:ext cx="38862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Posizione di un membro rispetto agli altri componenti di un grupp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Compiti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Funzion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Reazioni Comportamentali Ipotizzabil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741320" y="2965320"/>
            <a:ext cx="170352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8E273-4C89-4BEF-91FD-F0EFE10F13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Il gruppo e la soddisfazione dei bisog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LEADERSHIP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equilibri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i dell’individu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GROUPSHIP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i del grupp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22600" y="2976480"/>
            <a:ext cx="1739880" cy="18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00E74-A5E0-48E1-8073-CE6654FFF9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La Comunicazione Assertiva 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per la Riunione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369BE-8B62-4DAF-83EB-725DEE3CDF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'ASSERTIVITA' SI BASA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Sul senso di responsabilità personale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Sulla consapevolezza dei diritti altru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744560" y="2655720"/>
            <a:ext cx="1695600" cy="246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62EBC-88F0-4C5E-A9C6-5AEAE2CE02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48000" y="260280"/>
            <a:ext cx="5796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L’assertività significa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Essere onesti con se stessi e con gli altri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Avere la capacità di comunicare direttamente quale è la cosa che vogliamo, di cui abbiamo bisogno o che proviamo, ma </a:t>
            </a:r>
            <a:r>
              <a:rPr b="0" lang="it-IT" sz="2600" spc="-1" strike="noStrike" u="sng">
                <a:solidFill>
                  <a:srgbClr val="000066"/>
                </a:solidFill>
                <a:uFillTx/>
                <a:latin typeface="Tahoma"/>
              </a:rPr>
              <a:t>NON</a:t>
            </a: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 a spese del prossimo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Avere fiducia in se stessi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Tenere un atteggiamento positivo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Comprendere il punto di vista degli altri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Comportarsi in modo razionale e adulto.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Riuscire a negoziare e a raggiungere un compromesso realizzabile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Avere rispetto per se e per gli altri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1035000" y="3317760"/>
            <a:ext cx="663480" cy="100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9AF86-18FB-44BB-AAC6-BC8C17AB3D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2920" y="105264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L’assertività NON signific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Fare di testa propria e vincere semp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mparare a pappagallo una serie di tecniche e trucchetti prestabiliti da utilizzare ogni volta che si presenta una soluzione difficil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anovrare e controllare gli altri in modo da averla sempre vin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873080" y="2894040"/>
            <a:ext cx="1440000" cy="198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68C4-5B3F-425A-8472-F3658AD387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</a:rPr>
              <a:t>L’assertività permette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 avere molte più possibilità di ottenere ciò che si vuole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 accettare positivamente se stesso e il proprio comportament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725480" y="3035160"/>
            <a:ext cx="1733760" cy="17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0E4D9-F649-4C7D-9C8C-BA95CCE81A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tre fasi del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er acquisire assertività vi sono tre semplici fas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ahoma"/>
              </a:rPr>
              <a:t>FASE 1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SCOLTATE ATTIVAMENTE QUELLO CHE VIENE DETTO, POI MOSTRATE ALL'ALTRA PERSONA CHE AVETE SENTITO E CAPI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ahoma"/>
              </a:rPr>
              <a:t>FASE 2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TE COSA PENSATE O COSA PROVA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ahoma"/>
              </a:rPr>
              <a:t>FASE 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TE COSA VOLETE CHE ACCAD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488DE-9BF6-473C-B662-BEB78E4083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Tecniche chiave del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24000" y="907560"/>
            <a:ext cx="449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inguaggio del corp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Tecnica del disco incantat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re N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Compromesso realizzabile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nnebbiament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aloghi interior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ffermazione di sentimenti negativ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ffermazioni di disaccord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1104840" y="2595600"/>
            <a:ext cx="2389320" cy="25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74393-E799-42AC-ACCD-515ED1CB80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Comunicare per negoziare: diventare assertivi per essere persuasiv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50920" y="1052640"/>
            <a:ext cx="456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Migliorare il modo di comunicare, combattere l’ansia, in una parola, padroneggiare la situazione, significa diventare assertiv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ventare assertivi consente il creare un “potere positivo”, l’esercitare una leadership attiva, l’avere credibilità e, quindi, l’</a:t>
            </a:r>
            <a:r>
              <a:rPr b="0" lang="it-IT" sz="2800" spc="-1" strike="noStrike" u="sng">
                <a:solidFill>
                  <a:srgbClr val="000066"/>
                </a:solidFill>
                <a:uFillTx/>
                <a:latin typeface="Tahoma"/>
              </a:rPr>
              <a:t>essere persuasivi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035000" y="2882880"/>
            <a:ext cx="1619280" cy="171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1FEC9-F3D7-4522-A38B-90EB0E156C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Gli assiomi della comunicazion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87480" y="1676520"/>
            <a:ext cx="4770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50720" indent="-45072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on si può non comunic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Ogni messaggio presenta un aspetto di contenuto e uno di relazion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l significato di una sequenza di informazioni scritte è dato dalla punteggiatu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sistono relazioni simmetriche e relazioni complementari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È gratuito supporre che l'altro colga le stesse informazioni e le elabori nello stesso mo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71440" y="2882880"/>
            <a:ext cx="1370160" cy="19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C5228-EE5C-42CA-AB1C-9E339FA5FE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Comunicare per negoziare: diventare assertivi per essere persuasiv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700000" y="1341000"/>
            <a:ext cx="572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er far questo è necessario super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il rifiuto psicologico del potere e, quindi, delle responsabilità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il rifiuto, a priori, delle situazioni conflittuali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’eccessiva importanza data al “giudizio” degli altri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’incapacità di “fidarsi” degli altri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a paura di non “riuscire”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’anticipo mentale delle “conseguenze negative” e, quindi, l’inibizione dell’immaginazione positiva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o scarso livello di “speranza” nel futuro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’impossibilità di credere alle proprie capacità di “influenzare” gli altri.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35000" y="2739960"/>
            <a:ext cx="1400400" cy="192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7F4C5-0E26-41AB-AA05-09930B6CA06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Comunicare per negoziare: diventare assertivi per essere persuasiv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95640" y="1413000"/>
            <a:ext cx="4430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’ bene tenere, sempre, presente che ognuno possiede delle risorse e delle potenzialità, che può utilizzare meglio e valorizzare, che possono diventare i punti di forza di un proprio “stile comunicativo” personale e soggettiv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l comportamento assertivo è una qualità che permette a un soggetto di raggiungere gli obiettivi prefissati senza creare situazioni conflittuali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374840" y="2451240"/>
            <a:ext cx="1498680" cy="24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B3022-C3A4-4BA6-86C1-BE5F0C98BA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I piani della comunicazione assertiva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24360" y="1341000"/>
            <a:ext cx="4533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a comunicazione assertiva si esprime su piani differenti che riguardan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il viso (contatto visivo; espressione del viso)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il corpo (gesti; posizione del corpo)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la voce (tono; inflessione; volume)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i tempi (andata; ritorno)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71440" y="2739960"/>
            <a:ext cx="1663920" cy="18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B0A86-EDD2-4AD6-99AE-4E5B61A6C3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La Riunione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8763E-8987-4055-AA76-49C7501DFF0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49200" y="2297160"/>
            <a:ext cx="846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00" y="1905120"/>
            <a:ext cx="1429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IPOLO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9120" y="1917720"/>
            <a:ext cx="13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BIET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0560" y="2421000"/>
            <a:ext cx="1769400" cy="365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FORM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UL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ISION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5160" y="2374920"/>
            <a:ext cx="58935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rnire dati preliminari e aggiornare situazioni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splicitare politiche dell’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re disposizioni e diffondere conoscen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acilitare l’omogeneità del modo di lavor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accogliere pare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alutare aspetti globa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frontare competenze specifi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aborare alternative e preparare decisio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pprovare una raccomand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cegliere tra varie propo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finire piani d’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bilire responsabi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vviare nuovi proget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a Riunione: Tipologie e Obiettiv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053C-6823-4205-9C64-1523C7E923E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49200" y="2297160"/>
            <a:ext cx="846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844640"/>
            <a:ext cx="1873080" cy="365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UR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1844640"/>
            <a:ext cx="598644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bilire obiettivi e durata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unicare quanto sopra a tutti i partecipanti fornendo 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teriale di riferi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chiedere conferma della partecip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erificare il consenso sugli obiet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partire il tempo a disposi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minare un segretario per far rispettare i tempi e f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parare un verb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tribuire il verbale con le indicazioni su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i fa cos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ntro quali tem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 quali riso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cadenze per ulteriori incontri o verific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Organizzare una Riunion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6561-A62D-46D0-811A-C177D01637D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l governo della Riunione: 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e Strategie Negozial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809880" y="3962520"/>
            <a:ext cx="15670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81B30-2072-4A31-98B3-C4ADFAE613E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28800" y="2286000"/>
            <a:ext cx="7315200" cy="45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a Riunione: Caratteristiche delle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Strategie Negoziali (1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268200" y="2362320"/>
            <a:ext cx="846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141640" y="1600200"/>
            <a:ext cx="6241320" cy="667800"/>
            <a:chOff x="2141640" y="1600200"/>
            <a:chExt cx="6241320" cy="667800"/>
          </a:xfrm>
        </p:grpSpPr>
        <p:sp>
          <p:nvSpPr>
            <p:cNvPr id="189" name=""/>
            <p:cNvSpPr/>
            <p:nvPr/>
          </p:nvSpPr>
          <p:spPr>
            <a:xfrm>
              <a:off x="2141640" y="1620720"/>
              <a:ext cx="1488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ompeti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00480" y="163044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ollabora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66640" y="1600200"/>
              <a:ext cx="1516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ubordin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880" y="1601640"/>
            <a:ext cx="1710000" cy="4500000"/>
            <a:chOff x="2880" y="1601640"/>
            <a:chExt cx="1710000" cy="4500000"/>
          </a:xfrm>
        </p:grpSpPr>
        <p:sp>
          <p:nvSpPr>
            <p:cNvPr id="193" name=""/>
            <p:cNvSpPr/>
            <p:nvPr/>
          </p:nvSpPr>
          <p:spPr>
            <a:xfrm>
              <a:off x="229320" y="1601640"/>
              <a:ext cx="1173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ATTOR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80" y="2362320"/>
              <a:ext cx="171000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Obiettivo 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comportame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Espress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degli obietti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828080" y="2363760"/>
            <a:ext cx="7142760" cy="3739320"/>
            <a:chOff x="1828080" y="2363760"/>
            <a:chExt cx="7142760" cy="3739320"/>
          </a:xfrm>
        </p:grpSpPr>
        <p:sp>
          <p:nvSpPr>
            <p:cNvPr id="196" name=""/>
            <p:cNvSpPr/>
            <p:nvPr/>
          </p:nvSpPr>
          <p:spPr>
            <a:xfrm>
              <a:off x="1828080" y="2363760"/>
              <a:ext cx="183348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Persegue obietti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 spese dell’alt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Nasconde 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proprie carte: al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iducia in se stes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 bassa nell’alt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prende m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istorce i propr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bietti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90160" y="2363760"/>
              <a:ext cx="244620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ersegue obietti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ostenuti in comu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 l’altra 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sprime i propr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ensieri e emozioni c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fiducia e schiettezza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scolto attivo ed esplo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azione comune del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lternativ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mprende e rappres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a accuratamente i propr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isog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52000" y="2363760"/>
              <a:ext cx="241884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sciamente subord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na i propri obiettivi p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vitare il conflit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 la 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mpletamente aper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nell’esprimere le propri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ebolezze e vulnerab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lla 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reoccupato dei bisog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ell’altro, reprime 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ropri bisog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94D9B-F7CB-4991-808A-4C4A45FA097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752480" y="2209680"/>
            <a:ext cx="7391520" cy="464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4960" y="2330280"/>
            <a:ext cx="846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068560" y="1523880"/>
            <a:ext cx="6238440" cy="667800"/>
            <a:chOff x="2068560" y="1523880"/>
            <a:chExt cx="6238440" cy="667800"/>
          </a:xfrm>
        </p:grpSpPr>
        <p:sp>
          <p:nvSpPr>
            <p:cNvPr id="202" name=""/>
            <p:cNvSpPr/>
            <p:nvPr/>
          </p:nvSpPr>
          <p:spPr>
            <a:xfrm>
              <a:off x="2068560" y="1554120"/>
              <a:ext cx="1488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ompeti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25600" y="155412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ollabora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90680" y="1523880"/>
              <a:ext cx="1516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ubordin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0" y="1569960"/>
            <a:ext cx="1905120" cy="5288040"/>
            <a:chOff x="0" y="1569960"/>
            <a:chExt cx="1905120" cy="5288040"/>
          </a:xfrm>
        </p:grpSpPr>
        <p:sp>
          <p:nvSpPr>
            <p:cNvPr id="206" name=""/>
            <p:cNvSpPr/>
            <p:nvPr/>
          </p:nvSpPr>
          <p:spPr>
            <a:xfrm>
              <a:off x="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9320" y="1569960"/>
              <a:ext cx="11736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ATTOR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80" y="2286000"/>
              <a:ext cx="1743480" cy="39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Prevedib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Condivis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di informaz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Comportame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di ricerc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752120" y="2286000"/>
            <a:ext cx="7391880" cy="3982680"/>
            <a:chOff x="1752120" y="2286000"/>
            <a:chExt cx="7391880" cy="3982680"/>
          </a:xfrm>
        </p:grpSpPr>
        <p:sp>
          <p:nvSpPr>
            <p:cNvPr id="210" name=""/>
            <p:cNvSpPr/>
            <p:nvPr/>
          </p:nvSpPr>
          <p:spPr>
            <a:xfrm>
              <a:off x="1752120" y="2286000"/>
              <a:ext cx="2034720" cy="39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zioni imprevedibili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escola strategie 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orprese per sotto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ettere l’alt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Utilizza minacce 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luff; cerca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redomin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rova maniere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pparire impegna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u una posizione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anipola in mo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istruttivo l’altra po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81880" y="2332080"/>
              <a:ext cx="2452320" cy="34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zioni prevedibili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mportamento flessibi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 senza sorpre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divide le informazio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d è onesto; tratta l’alt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 comprensione 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ntegr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rova soluzioni ai pro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lemi soddisfacent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er entramb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51640" y="2332080"/>
              <a:ext cx="259236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zioni prevedibili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va incontro compl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amente all’alt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inuncia alla prop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osizione p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mmorbidire 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osizione del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rova modi di adattar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lla posizione dell’alt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a Riunione: Caratteristiche delle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Strategie Negoziali (2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99921-DD5B-41D9-A062-A79B9F4F034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00200" y="1981080"/>
            <a:ext cx="7543800" cy="487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168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4960" y="2098800"/>
            <a:ext cx="846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830240" y="1371600"/>
            <a:ext cx="6543360" cy="637560"/>
            <a:chOff x="1830240" y="1371600"/>
            <a:chExt cx="6543360" cy="637560"/>
          </a:xfrm>
        </p:grpSpPr>
        <p:sp>
          <p:nvSpPr>
            <p:cNvPr id="218" name=""/>
            <p:cNvSpPr/>
            <p:nvPr/>
          </p:nvSpPr>
          <p:spPr>
            <a:xfrm>
              <a:off x="1830240" y="1371600"/>
              <a:ext cx="1488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ompeti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90920" y="137160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ollabora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7280" y="1371600"/>
              <a:ext cx="1516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ubordin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800" y="1338120"/>
            <a:ext cx="1464480" cy="5265000"/>
            <a:chOff x="1800" y="1338120"/>
            <a:chExt cx="1464480" cy="5265000"/>
          </a:xfrm>
        </p:grpSpPr>
        <p:sp>
          <p:nvSpPr>
            <p:cNvPr id="222" name=""/>
            <p:cNvSpPr/>
            <p:nvPr/>
          </p:nvSpPr>
          <p:spPr>
            <a:xfrm>
              <a:off x="229320" y="1338120"/>
              <a:ext cx="11736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ATTOR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00" y="2133720"/>
              <a:ext cx="1464480" cy="44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Strument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per ave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succes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Estre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negati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Attitud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chiave/comp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Affront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l’impas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676520" y="2100240"/>
            <a:ext cx="7230960" cy="4502880"/>
            <a:chOff x="1676520" y="2100240"/>
            <a:chExt cx="7230960" cy="4502880"/>
          </a:xfrm>
        </p:grpSpPr>
        <p:sp>
          <p:nvSpPr>
            <p:cNvPr id="225" name=""/>
            <p:cNvSpPr/>
            <p:nvPr/>
          </p:nvSpPr>
          <p:spPr>
            <a:xfrm>
              <a:off x="1676520" y="2133720"/>
              <a:ext cx="2227320" cy="42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rea una cattiv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mmagine dell’altro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gnora le logich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ltrui; aumen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l’ost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itenere che il su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obiettivo sia quell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i impedire al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troparte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aggiungere l’ob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o vinco, tu perdi.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icorrere ad u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ediatore/arbit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62160" y="2133720"/>
              <a:ext cx="2427840" cy="44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vita i cattivi stereotipi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sidera le idee 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ase al merito; n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nduce ost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fondere la prop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dentità e quella del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Qual è il miglior modo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oddisfare gli obiettivi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ntrambe le parti ?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Utilizzare un facilitat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sperto in dinamich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i grupp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28480" y="2100240"/>
              <a:ext cx="2079000" cy="44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inimizza o evi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l conflitto e plac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l’ost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iventa uno zerbi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ella 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u vinci, io perdo.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Utilizzare formaz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ull’assertività 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sicoterap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a Riunione: Caratteristiche delle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Strategie Negoziali (3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1D195-BE9F-47F8-8D40-6991B2CBD87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I Conflitti e le Obiezioni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DF368-ACBA-49F2-A2F5-A23827F1CC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49200" y="2297160"/>
            <a:ext cx="846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6440" y="1905120"/>
            <a:ext cx="275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IPO DI NEGOZIA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8400" y="1917720"/>
            <a:ext cx="268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ATTICHE UTILIZZ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2040" y="2362320"/>
            <a:ext cx="2154960" cy="4203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ll’Aper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ggress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i Lunghi Silenz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l Beffar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8400" y="2374920"/>
            <a:ext cx="592524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Mette a disagio le controparti facendo commenti taglien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sulle loro prestazioni precedenti, i loro numeri, la lo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irragionevolezza, od ogni altra cosa possa ess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utilizzata per insinuare che non vale la pena parlare 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le contropar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Ascolta le controparti ma non risponde in mo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immediato alle loro proposte e affermazioni, qua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piuttosto sembra lasciar loro molto tempo, con 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risultato che i lunghi silenzi hanno lo scopo di fare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modo che chi gli è di fronte si scopra di pi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Deride e schernisce le proposte dell’opposizione al f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di mettere quest’ultima così in tensione da dire qualcos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di cui, poi, doversi penti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a Riunione: le Tattiche Negoziali (1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BF29B-C886-451A-A83C-82995B440B3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43080" y="2297160"/>
            <a:ext cx="846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6440" y="1905120"/>
            <a:ext cx="275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IPO DI NEGOZIA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2280" y="1905120"/>
            <a:ext cx="268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ATTICHE UTILIZZ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0680" y="2374920"/>
            <a:ext cx="1959840" cy="3929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Interrog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all’Inf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Ragionevolezz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ivide et imp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3360" y="2374920"/>
            <a:ext cx="602460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fronta tutte le proposte con meticolosità, sollecitan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mande in modo tale da indurre la controparte a riten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e non abbia fatto attentamente il lavoro. Affronta og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sposta evidenziando i problemi e chie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l’opposizione di spiegare in modo più approfond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sa inte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mbra disposto ad accettare ed è di aiuto, mentre p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mande impossibili allo scopo di conquistare l’amiciz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 la confidenza dell’opposi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rea dissenso tra l’opposizione in modo che deb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re attenta al disaccordo interno. Si allea con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rsona del team e cercare di condizionarlo contro gli al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bri del grup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a Riunione: le Tattiche Negoziali (2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30C4-3D2B-4877-8469-98FA1396179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“</a:t>
            </a:r>
            <a:r>
              <a:rPr b="0" i="1" lang="it-IT" sz="2800" spc="-1" strike="noStrike">
                <a:solidFill>
                  <a:srgbClr val="0000cc"/>
                </a:solidFill>
                <a:latin typeface="Tahoma"/>
              </a:rPr>
              <a:t>Più l’uomo dà agli altri, più possiede se stesso”</a:t>
            </a: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Lao-Tze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00043-049B-4DC4-B6E2-B9F8ED3AF0F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Il conflitt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05264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 valori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Scontro tra personalità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scussioni di merit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28720" y="3270240"/>
            <a:ext cx="1725840" cy="123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CD891-2218-4006-A7E8-C97A9E5351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strade per tentare di uscire da un conflitt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80000" y="1988640"/>
            <a:ext cx="4906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A METACOMUNICAZION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RIVOLGERSI AD UN TERZO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SARMO UNILATERAL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A RISTRUTTURAZIONE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85800" y="2378160"/>
            <a:ext cx="2867040" cy="30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2E0FD-CCD2-4712-A566-785CB20474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a gestione delle obiez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Ci possono essere diversi tipi di bisogni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sicurezza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qualità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novità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tranquillità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…………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.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2104920" y="2975040"/>
            <a:ext cx="974880" cy="182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1BD52-ABA1-43F5-8D8F-47C43AB8FE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Possibili risposte alle obiez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1640" y="105264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45680" indent="-44568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RINVIA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"Mi dà l'opportunità di parlarne dopo?"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-44568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RIDUR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"Tenendo conto di tutte queste osservazioni quale è la più importante dalla quale partiamo?"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-44568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AMPLIA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"C'è qualcosa d'altro che vuole dirmi?”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-44568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ISOLA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"Rispondendo a queste domande soddisfo tutti i suoi bisogni?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-44568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TRASFORMARE IN ARGOMENTO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Dare la spiegazione tecnica.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-44568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CONTRODOMANDA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Rilevare la fondatezza dell'opinione</a:t>
            </a:r>
            <a:r>
              <a:rPr b="0" lang="fr-FR" sz="17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1557360" y="3156120"/>
            <a:ext cx="2071800" cy="145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76593-A78B-4AB6-A9AD-DAD1AA06C3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Il Gruppo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1483E-A2FF-425D-9094-AA4A688BF3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4:55:16Z</dcterms:created>
  <dc:creator>Giangreco</dc:creator>
  <dc:description/>
  <cp:keywords/>
  <dc:language>en-US</dc:language>
  <cp:lastModifiedBy>Daniela</cp:lastModifiedBy>
  <cp:lastPrinted>1999-04-19T15:18:12Z</cp:lastPrinted>
  <dcterms:modified xsi:type="dcterms:W3CDTF">2008-04-02T06:18:27Z</dcterms:modified>
  <cp:revision>273</cp:revision>
  <dc:subject/>
  <dc:title>Negoziazione</dc:title>
</cp:coreProperties>
</file>